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F661F-4B9D-47D6-AB8B-657036AB6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E3305-8FD5-4A9D-A8FF-ECEF9708A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8514C-BB89-4473-98ED-F59AB1227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76B15-1213-43A3-A2FE-D68E4E865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84B82-870E-450C-A4F3-683377BC6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28C1B-7668-4675-AD11-00C6413D8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7528D-A166-4CA5-9D05-737C6F132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EC008-A47F-4B79-89F8-434602460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07842-4853-49C0-BE14-98A36CCCD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7A6F-B380-4494-AFFE-9A8A0E073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14740-03ED-4429-9FE3-71B986CDE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B9690-E499-4A56-8E4F-439503C5B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3901-CA4B-4803-8C63-D8019D139AA4}" type="slidenum">
              <a:rPr b="0" lang="en-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 Skills Profil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m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ntrepreneurship 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ate Last Upda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
          <p:cNvGraphicFramePr/>
          <p:nvPr/>
        </p:nvGraphicFramePr>
        <p:xfrm>
          <a:off x="2743200" y="380880"/>
          <a:ext cx="3657600" cy="5857920"/>
        </p:xfrm>
        <a:graphic>
          <a:graphicData uri="http://schemas.openxmlformats.org/drawingml/2006/table">
            <a:tbl>
              <a:tblPr/>
              <a:tblGrid>
                <a:gridCol w="2133720"/>
                <a:gridCol w="838080"/>
                <a:gridCol w="6858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 L, 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ing to take initiativ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ong Sense of Commitmen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7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Energy Level</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ility to give and receive feedback.</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ity</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ination time</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r each of the critical skills below, tell me the ones you think you have and provide proof.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80880" y="228600"/>
          <a:ext cx="8534520" cy="5857920"/>
        </p:xfrm>
        <a:graphic>
          <a:graphicData uri="http://schemas.openxmlformats.org/drawingml/2006/table">
            <a:tbl>
              <a:tblPr/>
              <a:tblGrid>
                <a:gridCol w="2133720"/>
                <a:gridCol w="64008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ust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isten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v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m Build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 Communicato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 Record Keep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380880" y="228600"/>
          <a:ext cx="8534520" cy="4759200"/>
        </p:xfrm>
        <a:graphic>
          <a:graphicData uri="http://schemas.openxmlformats.org/drawingml/2006/table">
            <a:tbl>
              <a:tblPr/>
              <a:tblGrid>
                <a:gridCol w="2133720"/>
                <a:gridCol w="64008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ust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t goals for yourself</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 organiz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e a spirit of adventur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 Tak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In the following slide tell me whether you not you think you have what it takes to be an entrepreneur?  If you do, tell me why!  If you don’t tell me what you plan to do to increase your ability to be on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 descr=""/>
          <p:cNvPicPr/>
          <p:nvPr/>
        </p:nvPicPr>
        <p:blipFill>
          <a:blip r:embed="rId1"/>
          <a:stretch/>
        </p:blipFill>
        <p:spPr>
          <a:xfrm>
            <a:off x="380880" y="304920"/>
            <a:ext cx="8305920" cy="5821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I Poss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 name=""/>
          <p:cNvGraphicFramePr/>
          <p:nvPr/>
        </p:nvGraphicFramePr>
        <p:xfrm>
          <a:off x="457200" y="304920"/>
          <a:ext cx="8229600" cy="5851440"/>
        </p:xfrm>
        <a:graphic>
          <a:graphicData uri="http://schemas.openxmlformats.org/drawingml/2006/table">
            <a:tbl>
              <a:tblPr/>
              <a:tblGrid>
                <a:gridCol w="4114800"/>
                <a:gridCol w="411480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isti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 from your lif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82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8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8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82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5" name="PlaceHolder 1"/>
          <p:cNvSpPr>
            <a:spLocks noGrp="1"/>
          </p:cNvSpPr>
          <p:nvPr>
            <p:ph type="title"/>
          </p:nvPr>
        </p:nvSpPr>
        <p:spPr>
          <a:xfrm>
            <a:off x="450720" y="198072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e this table and to list 5 characteristics you currently poss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 name=""/>
          <p:cNvGraphicFramePr/>
          <p:nvPr/>
        </p:nvGraphicFramePr>
        <p:xfrm>
          <a:off x="533520" y="228600"/>
          <a:ext cx="8229600" cy="6315120"/>
        </p:xfrm>
        <a:graphic>
          <a:graphicData uri="http://schemas.openxmlformats.org/drawingml/2006/table">
            <a:tbl>
              <a:tblPr/>
              <a:tblGrid>
                <a:gridCol w="4114800"/>
                <a:gridCol w="41148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isti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ow will you develop 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7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7"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is table, what are the five characteristics you think you don’t have and tell me how you are going to develop the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DC Assessmen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Click on this link and complete the survey: https://www.bdc.ca/en/articles-tools/entrepreneur-toolkit/business-assessments/pages/self-assessment-test-your-entrepreneurial-potential.aspx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DC Assessment Results</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plete the survey and summarize your results on the following slide.  Tell me if you agree or disagree, wh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DC Assessment Result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al Entrepreneurial Skills</a:t>
            </a:r>
            <a:endParaRPr b="0" lang="en-US" sz="4400" spc="-1" strike="noStrike">
              <a:solidFill>
                <a:srgbClr val="000000"/>
              </a:solidFill>
              <a:latin typeface="Calibri"/>
            </a:endParaRPr>
          </a:p>
        </p:txBody>
      </p:sp>
      <p:sp>
        <p:nvSpPr>
          <p:cNvPr id="55"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On the following slides, rate each of the skills in the amounts on a scale of 1-10 of how important you think it is (1=not, 10=very), tell me whether each is innate(i), learned(l), or experiential (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380880" y="228600"/>
          <a:ext cx="3657600" cy="5857920"/>
        </p:xfrm>
        <a:graphic>
          <a:graphicData uri="http://schemas.openxmlformats.org/drawingml/2006/table">
            <a:tbl>
              <a:tblPr/>
              <a:tblGrid>
                <a:gridCol w="2133720"/>
                <a:gridCol w="838080"/>
                <a:gridCol w="6858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 L, 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it of Adventur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ong need to achiev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f Confidenc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us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Oriented</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57" name=""/>
          <p:cNvGraphicFramePr/>
          <p:nvPr/>
        </p:nvGraphicFramePr>
        <p:xfrm>
          <a:off x="4800600" y="228600"/>
          <a:ext cx="3657600" cy="5857920"/>
        </p:xfrm>
        <a:graphic>
          <a:graphicData uri="http://schemas.openxmlformats.org/drawingml/2006/table">
            <a:tbl>
              <a:tblPr/>
              <a:tblGrid>
                <a:gridCol w="2133720"/>
                <a:gridCol w="838080"/>
                <a:gridCol w="6858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 L, 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istenc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rd Working</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itive Attitud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ong sense of self</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5T16:34:21Z</dcterms:created>
  <dc:creator>Windows User</dc:creator>
  <dc:description/>
  <dc:language>en-US</dc:language>
  <cp:lastModifiedBy>Amy Mcfarlen</cp:lastModifiedBy>
  <dcterms:modified xsi:type="dcterms:W3CDTF">2017-09-11T15:05:23Z</dcterms:modified>
  <cp:revision>7</cp:revision>
  <dc:subject/>
  <dc:title>My Skills Profile</dc:title>
</cp:coreProperties>
</file>